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8DAA-6FD3-4567-88BE-3BE476F5333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C5A4-D641-429D-BF86-4095187BA81D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84D9-0A57-4F4F-92B0-03019BB49C2F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11A5-B77E-4895-88CE-D09AD754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E4E7-2810-4446-9CDA-87028254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0BCF-C463-493D-A649-064734E7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A75C-CDE6-48B1-AC6F-24659ECA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9D3E-CF81-471A-8410-7468E561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3337-1997-473D-A543-0AAC7D4B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393F-3367-4199-9C27-DC6FE83C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97AD-9B73-4838-A37E-658D4758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70F0-A4C6-472A-96E9-CD019634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7B1F-FA1B-42A7-80F3-8C81811D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11F5-B276-4FF6-A2B9-7C460543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2CCC-14AD-4A1F-8756-03EF3A0A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7282-3C41-4338-AFE9-16E66639D14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60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73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5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2:13Z</dcterms:modified>
  <cp:revision>254</cp:revision>
  <dc:subject/>
  <dc:title>슬라이드 1</dc:title>
</cp:coreProperties>
</file>