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907588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076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560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712440" y="744480"/>
            <a:ext cx="5381640" cy="372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3884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5600" y="943884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8AE49-3DDB-41E5-BFFA-BCB70E89CB18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712800" y="744480"/>
            <a:ext cx="5381640" cy="372744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슬라이드 번호 개체 틀 3"/>
          <p:cNvSpPr/>
          <p:nvPr/>
        </p:nvSpPr>
        <p:spPr>
          <a:xfrm>
            <a:off x="3855960" y="943920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DB6A7-35E6-40F8-94E6-79BDF81F77A6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712800" y="744480"/>
            <a:ext cx="5381640" cy="372744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슬라이드 번호 개체 틀 3"/>
          <p:cNvSpPr/>
          <p:nvPr/>
        </p:nvSpPr>
        <p:spPr>
          <a:xfrm>
            <a:off x="3855960" y="943920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3F835-3C5F-40C9-B4DB-FB711CC63663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5CCB-7CCB-4760-92BB-ADB37A0C4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BA8A-095E-4AC3-8BE3-1DE75F92E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9353-6AFD-4120-BB4E-B72F92993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62C9-C878-4E45-B43E-2E8E5B87F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717B-9357-4C5A-8496-230C1C7AA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D4A8-C628-4150-8AD2-0C4064688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E59A-8BBB-4C40-AEC5-274360F1E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E618-263A-46AF-9F09-F7BB693B5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12D0-CC11-41DC-922E-D49E90720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EB60-088D-4704-AA52-9B7FFB203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E1FD-3572-4FC3-A412-C7525B58C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C54A-4E37-4115-8E6C-3E1F9BD3B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471A1-B486-43B8-83BA-17E6752602A9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직사각형 29"/>
          <p:cNvSpPr/>
          <p:nvPr/>
        </p:nvSpPr>
        <p:spPr>
          <a:xfrm>
            <a:off x="4406760" y="422280"/>
            <a:ext cx="169920" cy="625968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9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50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1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52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169920" y="996840"/>
            <a:ext cx="4114800" cy="552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2074*1110*1945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숙사 내실에서 편안한 휴식과 수면을 취할 수 있는 최적의 규격으로 설계되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포스트 구조는 견고한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H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자 구조의 철제프레임으로 내구성이 좋은 형태로 설계되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포스트 하부에 높이조절 레벨러 적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철재사다리는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바닥프레임에 연결되어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침대하단에 서랍을 넣을시 간섭이 없어짐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주머니형 난간덮개로 프레임을 가리고 간단한 소품을 보관할 수 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(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옵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)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매트리스 바닥프레임을 보강하여 더욱 견고해짐  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(20*20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각 파이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 보강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머리판에 실크스크린적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옵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원자재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8t PB 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1.2t ABS EDGE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바닥판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5t PB 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P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프레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.4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발 파이프 및 스틸 파이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분체 도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글라이더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알루미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분체도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캡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ABS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플라스틱 사출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컬러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5" name="Picture 9" descr=""/>
          <p:cNvPicPr/>
          <p:nvPr/>
        </p:nvPicPr>
        <p:blipFill>
          <a:blip r:embed="rId3"/>
          <a:stretch/>
        </p:blipFill>
        <p:spPr>
          <a:xfrm>
            <a:off x="5345280" y="1774800"/>
            <a:ext cx="3886200" cy="3848040"/>
          </a:xfrm>
          <a:prstGeom prst="rect">
            <a:avLst/>
          </a:prstGeom>
          <a:ln w="0">
            <a:noFill/>
          </a:ln>
        </p:spPr>
      </p:pic>
      <p:sp>
        <p:nvSpPr>
          <p:cNvPr id="56" name="Text Box 51"/>
          <p:cNvSpPr/>
          <p:nvPr/>
        </p:nvSpPr>
        <p:spPr>
          <a:xfrm>
            <a:off x="1981080" y="585144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직선 연결선 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사각형 2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BED &lt;DBE3022-2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침대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직사각형 4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직선 연결선 30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그림 1" descr=""/>
          <p:cNvPicPr/>
          <p:nvPr/>
        </p:nvPicPr>
        <p:blipFill>
          <a:blip r:embed="rId1"/>
          <a:stretch/>
        </p:blipFill>
        <p:spPr>
          <a:xfrm>
            <a:off x="5880240" y="1225440"/>
            <a:ext cx="2477880" cy="4619880"/>
          </a:xfrm>
          <a:prstGeom prst="rect">
            <a:avLst/>
          </a:prstGeom>
          <a:ln w="0">
            <a:noFill/>
          </a:ln>
        </p:spPr>
      </p:pic>
      <p:pic>
        <p:nvPicPr>
          <p:cNvPr id="62" name="그림 49" descr=""/>
          <p:cNvPicPr/>
          <p:nvPr/>
        </p:nvPicPr>
        <p:blipFill>
          <a:blip r:embed="rId2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63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4" name="그림 42" descr="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65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직사각형 29"/>
          <p:cNvSpPr/>
          <p:nvPr/>
        </p:nvSpPr>
        <p:spPr>
          <a:xfrm>
            <a:off x="0" y="422280"/>
            <a:ext cx="4406760" cy="643572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Text Box 8"/>
          <p:cNvSpPr/>
          <p:nvPr/>
        </p:nvSpPr>
        <p:spPr>
          <a:xfrm>
            <a:off x="169920" y="996840"/>
            <a:ext cx="4533840" cy="31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- 435*316*1135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d9d9d9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 </a:t>
            </a:r>
            <a:r>
              <a:rPr b="0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1.5</a:t>
            </a:r>
            <a:r>
              <a:rPr b="0" lang="ko-KR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층 침대용 철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d9d9d9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d9d9d9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BODY : 15x35x1.4t </a:t>
            </a:r>
            <a:r>
              <a:rPr b="1" lang="ko-KR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인발파이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              </a:t>
            </a:r>
            <a:r>
              <a:rPr b="1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20x20x1.4t </a:t>
            </a:r>
            <a:r>
              <a:rPr b="1" lang="ko-KR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사각파이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              </a:t>
            </a:r>
            <a:r>
              <a:rPr b="1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3t </a:t>
            </a:r>
            <a:r>
              <a:rPr b="1" lang="ko-KR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스틸절곡 </a:t>
            </a:r>
            <a:r>
              <a:rPr b="1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/ 1.6t </a:t>
            </a:r>
            <a:r>
              <a:rPr b="1" lang="ko-KR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스틸절곡 </a:t>
            </a:r>
            <a:r>
              <a:rPr b="1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+ </a:t>
            </a:r>
            <a:r>
              <a:rPr b="1" lang="ko-KR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지정 분체도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직선 연결선 32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직사각형 33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ALT2 </a:t>
            </a:r>
            <a:r>
              <a:rPr b="1" lang="en-US" sz="10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_ LADDER &lt;DIL3004B-1</a:t>
            </a:r>
            <a:r>
              <a:rPr b="1" lang="ko-KR" sz="10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인용 사다리</a:t>
            </a:r>
            <a:r>
              <a:rPr b="1" lang="en-US" sz="10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직선 연결선 34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직사각형 35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※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상기 자재 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&amp; HARDWARE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는 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K.S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,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5T23:00:37Z</dcterms:created>
  <dc:creator>LIVART</dc:creator>
  <dc:description/>
  <dc:language>en-US</dc:language>
  <cp:lastModifiedBy>ajou</cp:lastModifiedBy>
  <cp:lastPrinted>2018-05-23T01:14:21Z</cp:lastPrinted>
  <dcterms:modified xsi:type="dcterms:W3CDTF">2018-06-08T09:11:16Z</dcterms:modified>
  <cp:revision>254</cp:revision>
  <dc:subject/>
  <dc:title>슬라이드 1</dc:title>
</cp:coreProperties>
</file>